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647640" y="129960"/>
            <a:ext cx="11709360" cy="99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0692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5658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6476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60692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5658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647640" y="129960"/>
            <a:ext cx="11709360" cy="99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0692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5658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476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60692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5658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0692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5658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6476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460692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85658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647640" y="129960"/>
            <a:ext cx="11709360" cy="99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7334E-4B22-4CDE-A1AC-16072DE06ED9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0692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5658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6476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460692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85658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647640" y="129960"/>
            <a:ext cx="11709360" cy="99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C3C0F-419E-4E71-A458-900EFBB3AFBE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0692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85658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6476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460692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85658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57BB8-02B8-42DB-B3A4-B5CF8EB5183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0D296-77FE-4888-809E-D966B1FF34F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540F8-CA38-448D-B598-79383C043D5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47640" y="129960"/>
            <a:ext cx="11709360" cy="99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22342-AF3A-4296-AE52-0D09546DCD6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BE5F3-4126-4D2A-824E-D709303820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CF964-6DFB-4639-9BBB-438475112B8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3BCBD-A8FE-4757-9586-937DD6EACA8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94FB3-64FA-4BC8-B3F2-C765B28DB98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05CDD-73A2-4B4C-B4D1-6AA2F3A8D64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0692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5658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476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460692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85658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2FE1E-67D6-4C59-B2BC-BB65799FC3E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F37AD-4C43-4E7B-82DC-A256057FA3E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52B8C-31B3-40DD-BD4F-4D5D95A967F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61ABF-81CD-4310-86F1-824708B4045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B3A9C-03E6-4024-ADA6-541F01D86B2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85C16-424D-4AA8-B3DF-329FEDA70E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47640" y="129960"/>
            <a:ext cx="11709360" cy="99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EACA7-9A46-4365-9AFA-A548C94ABA9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CF1A2-F887-40D9-A034-5708C052A0F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2361E-C1A1-4182-834D-745CA0A2F5A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B8C76-62FA-49BE-9A7F-D05BAC7D7DF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5CBEE-4903-4DAD-97F0-9F8260293B0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78735-AB5E-4024-A19C-F9FBDDC24BD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0692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5658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476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60692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5658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1D65D-3960-4097-BE0C-179AB903B3C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47640" y="129960"/>
            <a:ext cx="11709360" cy="99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0692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5658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476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60692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5658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647640" y="129960"/>
            <a:ext cx="11709360" cy="99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47640" y="129960"/>
            <a:ext cx="11709360" cy="99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0692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5658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476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460692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85658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47640" y="129960"/>
            <a:ext cx="11709360" cy="99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0692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5658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476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460692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85658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647640" y="129960"/>
            <a:ext cx="11709360" cy="99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0692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5658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6476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60692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5658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647640" y="129960"/>
            <a:ext cx="11709360" cy="99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0692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5658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6476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460692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85658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algn="ctr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1"/>
          </p:nvPr>
        </p:nvSpPr>
        <p:spPr>
          <a:xfrm>
            <a:off x="10666440" y="8881920"/>
            <a:ext cx="3398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A7C2B-597B-426C-AD51-B737FE6D44D4}" type="slidenum"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Num" idx="2"/>
          </p:nvPr>
        </p:nvSpPr>
        <p:spPr>
          <a:xfrm>
            <a:off x="10651680" y="8881920"/>
            <a:ext cx="36828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4AD13-9924-4DBC-8F7D-2D7F2AFB2F9C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2044800" y="2416680"/>
            <a:ext cx="9777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2"/>
          <p:cNvSpPr/>
          <p:nvPr/>
        </p:nvSpPr>
        <p:spPr>
          <a:xfrm>
            <a:off x="5867280" y="4241880"/>
            <a:ext cx="1270080" cy="1270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8001000" y="1523880"/>
            <a:ext cx="1270080" cy="1270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5188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519840" indent="-282240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5480" indent="-282240">
              <a:spcBef>
                <a:spcPts val="24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0760" indent="-282240">
              <a:spcBef>
                <a:spcPts val="2401"/>
              </a:spcBef>
              <a:buClr>
                <a:srgbClr val="000000"/>
              </a:buClr>
              <a:buSzPct val="75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1"/>
          <p:cNvSpPr/>
          <p:nvPr/>
        </p:nvSpPr>
        <p:spPr>
          <a:xfrm>
            <a:off x="482760" y="2514600"/>
            <a:ext cx="13004640" cy="28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know the parameter value, θ =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make three draws.  What is the probability of all of the possible outcomes of the experi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1"/>
          <p:cNvSpPr/>
          <p:nvPr/>
        </p:nvSpPr>
        <p:spPr>
          <a:xfrm>
            <a:off x="279360" y="3886200"/>
            <a:ext cx="13005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w the data are constant.  We make three draws, 2 whites and 1 bla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the probability of the data conditional on each hypothesis (read, θ, model, parameter valu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ctr">
            <a:noAutofit/>
          </a:bodyPr>
          <a:p>
            <a:pPr marL="57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Likelihood: 2 whites on 3 dra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2" descr=""/>
          <p:cNvPicPr/>
          <p:nvPr/>
        </p:nvPicPr>
        <p:blipFill>
          <a:blip r:embed="rId1"/>
          <a:stretch/>
        </p:blipFill>
        <p:spPr>
          <a:xfrm>
            <a:off x="3073320" y="2895480"/>
            <a:ext cx="648972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774720" y="990360"/>
            <a:ext cx="11049120" cy="704844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ctr">
            <a:noAutofit/>
          </a:bodyPr>
          <a:p>
            <a:pPr marL="572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lculate the probability of the data (2 whites on 3 draws) conditional on each of the models (hypotheses). 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ot the probability of the data conditional on (as a function of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 0…1 (all possible hypotheses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1"/>
          <p:cNvSpPr/>
          <p:nvPr/>
        </p:nvSpPr>
        <p:spPr>
          <a:xfrm>
            <a:off x="500040" y="330120"/>
            <a:ext cx="8354520" cy="84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Courier New"/>
              </a:rPr>
              <a:t>rm(list=ls(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Courier New"/>
              </a:rPr>
              <a:t>p=seq(0,1,.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#number of wh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Courier New"/>
              </a:rPr>
              <a:t>w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#number of dra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Courier New"/>
              </a:rPr>
              <a:t>n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Courier New"/>
              </a:rPr>
              <a:t>y=dbinom(x=w, size=n, prob=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Courier New"/>
              </a:rPr>
              <a:t>plot(p,y,typ="l", lwd=2, col="blue",main="2 white on 3 draws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Courier New"/>
              </a:rPr>
              <a:t>p1=5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Courier New"/>
              </a:rPr>
              <a:t>Ltheta1=dbinom(x=w, size=n, prob=p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gt;Ltheta1[1] 0.347222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Courier New"/>
              </a:rPr>
              <a:t>p2=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Courier New"/>
              </a:rPr>
              <a:t>Ltheta2=dbinom(x=w, size=n, prob=p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gt;Ltheta2[1] 0.3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Courier New"/>
              </a:rPr>
              <a:t>p3=1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Courier New"/>
              </a:rPr>
              <a:t>Ltheta3=dbinom(x=w, size=n, prob=p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gt;Ltheta3[1] 0.069444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1" descr=""/>
          <p:cNvPicPr/>
          <p:nvPr/>
        </p:nvPicPr>
        <p:blipFill>
          <a:blip r:embed="rId1"/>
          <a:stretch/>
        </p:blipFill>
        <p:spPr>
          <a:xfrm>
            <a:off x="1871640" y="0"/>
            <a:ext cx="9634680" cy="906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77760" y="393840"/>
            <a:ext cx="11049120" cy="787392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ctr">
            <a:noAutofit/>
          </a:bodyPr>
          <a:p>
            <a:pPr marL="57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draw 10 beans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lculate the probability of the data (total = 4 whites on 10 draws) conditional on each of the 3 hypotheses. 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ot the probability of the data conditional on 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 a function of 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 0…1 (all possible hypotheses)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1" descr=""/>
          <p:cNvPicPr/>
          <p:nvPr/>
        </p:nvPicPr>
        <p:blipFill>
          <a:blip r:embed="rId1"/>
          <a:stretch/>
        </p:blipFill>
        <p:spPr>
          <a:xfrm>
            <a:off x="1486080" y="-152280"/>
            <a:ext cx="10023120" cy="943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1"/>
          <p:cNvSpPr/>
          <p:nvPr/>
        </p:nvSpPr>
        <p:spPr>
          <a:xfrm>
            <a:off x="3251160" y="247680"/>
            <a:ext cx="858528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rm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明朝 ProN W3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2"/>
          <p:cNvSpPr/>
          <p:nvPr/>
        </p:nvSpPr>
        <p:spPr>
          <a:xfrm>
            <a:off x="590400" y="1371600"/>
            <a:ext cx="8609040" cy="73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507960"/>
                <a:tab algn="l" pos="1015920"/>
                <a:tab algn="l" pos="1511280"/>
                <a:tab algn="l" pos="2019240"/>
                <a:tab algn="l" pos="2527200"/>
                <a:tab algn="l" pos="3035160"/>
                <a:tab algn="l" pos="3543480"/>
                <a:tab algn="l" pos="4051440"/>
                <a:tab algn="l" pos="4546440"/>
                <a:tab algn="l" pos="5054760"/>
                <a:tab algn="l" pos="5562720"/>
                <a:tab algn="l" pos="6070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Courier New"/>
              </a:rPr>
              <a:t>rm(list=ls(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507960"/>
                <a:tab algn="l" pos="1015920"/>
                <a:tab algn="l" pos="1511280"/>
                <a:tab algn="l" pos="2019240"/>
                <a:tab algn="l" pos="2527200"/>
                <a:tab algn="l" pos="3035160"/>
                <a:tab algn="l" pos="3543480"/>
                <a:tab algn="l" pos="4051440"/>
                <a:tab algn="l" pos="4546440"/>
                <a:tab algn="l" pos="5054760"/>
                <a:tab algn="l" pos="5562720"/>
                <a:tab algn="l" pos="6070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Courier New"/>
              </a:rPr>
              <a:t>p=seq(0,1,.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507960"/>
                <a:tab algn="l" pos="1015920"/>
                <a:tab algn="l" pos="1511280"/>
                <a:tab algn="l" pos="2019240"/>
                <a:tab algn="l" pos="2527200"/>
                <a:tab algn="l" pos="3035160"/>
                <a:tab algn="l" pos="3543480"/>
                <a:tab algn="l" pos="4051440"/>
                <a:tab algn="l" pos="4546440"/>
                <a:tab algn="l" pos="5054760"/>
                <a:tab algn="l" pos="5562720"/>
                <a:tab algn="l" pos="6070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507960"/>
                <a:tab algn="l" pos="1015920"/>
                <a:tab algn="l" pos="1511280"/>
                <a:tab algn="l" pos="2019240"/>
                <a:tab algn="l" pos="2527200"/>
                <a:tab algn="l" pos="3035160"/>
                <a:tab algn="l" pos="3543480"/>
                <a:tab algn="l" pos="4051440"/>
                <a:tab algn="l" pos="4546440"/>
                <a:tab algn="l" pos="5054760"/>
                <a:tab algn="l" pos="5562720"/>
                <a:tab algn="l" pos="6070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Courier New"/>
              </a:rPr>
              <a:t>#number of wh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507960"/>
                <a:tab algn="l" pos="1015920"/>
                <a:tab algn="l" pos="1511280"/>
                <a:tab algn="l" pos="2019240"/>
                <a:tab algn="l" pos="2527200"/>
                <a:tab algn="l" pos="3035160"/>
                <a:tab algn="l" pos="3543480"/>
                <a:tab algn="l" pos="4051440"/>
                <a:tab algn="l" pos="4546440"/>
                <a:tab algn="l" pos="5054760"/>
                <a:tab algn="l" pos="5562720"/>
                <a:tab algn="l" pos="6070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Courier New"/>
              </a:rPr>
              <a:t>w=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507960"/>
                <a:tab algn="l" pos="1015920"/>
                <a:tab algn="l" pos="1511280"/>
                <a:tab algn="l" pos="2019240"/>
                <a:tab algn="l" pos="2527200"/>
                <a:tab algn="l" pos="3035160"/>
                <a:tab algn="l" pos="3543480"/>
                <a:tab algn="l" pos="4051440"/>
                <a:tab algn="l" pos="4546440"/>
                <a:tab algn="l" pos="5054760"/>
                <a:tab algn="l" pos="5562720"/>
                <a:tab algn="l" pos="6070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Courier New"/>
              </a:rPr>
              <a:t>#number of dra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507960"/>
                <a:tab algn="l" pos="1015920"/>
                <a:tab algn="l" pos="1511280"/>
                <a:tab algn="l" pos="2019240"/>
                <a:tab algn="l" pos="2527200"/>
                <a:tab algn="l" pos="3035160"/>
                <a:tab algn="l" pos="3543480"/>
                <a:tab algn="l" pos="4051440"/>
                <a:tab algn="l" pos="4546440"/>
                <a:tab algn="l" pos="5054760"/>
                <a:tab algn="l" pos="5562720"/>
                <a:tab algn="l" pos="6070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Courier New"/>
              </a:rPr>
              <a:t>n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507960"/>
                <a:tab algn="l" pos="1015920"/>
                <a:tab algn="l" pos="1511280"/>
                <a:tab algn="l" pos="2019240"/>
                <a:tab algn="l" pos="2527200"/>
                <a:tab algn="l" pos="3035160"/>
                <a:tab algn="l" pos="3543480"/>
                <a:tab algn="l" pos="4051440"/>
                <a:tab algn="l" pos="4546440"/>
                <a:tab algn="l" pos="5054760"/>
                <a:tab algn="l" pos="5562720"/>
                <a:tab algn="l" pos="6070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Courier New"/>
              </a:rPr>
              <a:t>y=dbinom(x=w,size=n,prob=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507960"/>
                <a:tab algn="l" pos="1015920"/>
                <a:tab algn="l" pos="1511280"/>
                <a:tab algn="l" pos="2019240"/>
                <a:tab algn="l" pos="2527200"/>
                <a:tab algn="l" pos="3035160"/>
                <a:tab algn="l" pos="3543480"/>
                <a:tab algn="l" pos="4051440"/>
                <a:tab algn="l" pos="4546440"/>
                <a:tab algn="l" pos="5054760"/>
                <a:tab algn="l" pos="5562720"/>
                <a:tab algn="l" pos="6070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Courier New"/>
              </a:rPr>
              <a:t>plot(p,y,typ="l", lwd=2, col="blue",main="4 white on 10 draws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507960"/>
                <a:tab algn="l" pos="1015920"/>
                <a:tab algn="l" pos="1511280"/>
                <a:tab algn="l" pos="2019240"/>
                <a:tab algn="l" pos="2527200"/>
                <a:tab algn="l" pos="3035160"/>
                <a:tab algn="l" pos="3543480"/>
                <a:tab algn="l" pos="4051440"/>
                <a:tab algn="l" pos="4546440"/>
                <a:tab algn="l" pos="5054760"/>
                <a:tab algn="l" pos="5562720"/>
                <a:tab algn="l" pos="6070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507960"/>
                <a:tab algn="l" pos="1015920"/>
                <a:tab algn="l" pos="1511280"/>
                <a:tab algn="l" pos="2019240"/>
                <a:tab algn="l" pos="2527200"/>
                <a:tab algn="l" pos="3035160"/>
                <a:tab algn="l" pos="3543480"/>
                <a:tab algn="l" pos="4051440"/>
                <a:tab algn="l" pos="4546440"/>
                <a:tab algn="l" pos="5054760"/>
                <a:tab algn="l" pos="5562720"/>
                <a:tab algn="l" pos="6070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Courier New"/>
              </a:rPr>
              <a:t>p1=5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507960"/>
                <a:tab algn="l" pos="1015920"/>
                <a:tab algn="l" pos="1511280"/>
                <a:tab algn="l" pos="2019240"/>
                <a:tab algn="l" pos="2527200"/>
                <a:tab algn="l" pos="3035160"/>
                <a:tab algn="l" pos="3543480"/>
                <a:tab algn="l" pos="4051440"/>
                <a:tab algn="l" pos="4546440"/>
                <a:tab algn="l" pos="5054760"/>
                <a:tab algn="l" pos="5562720"/>
                <a:tab algn="l" pos="6070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Monaco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Courier New"/>
              </a:rPr>
              <a:t>Ltheta1=dbinom(x=w,size=n,prob=p1);Ltheta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507960"/>
                <a:tab algn="l" pos="1015920"/>
                <a:tab algn="l" pos="1511280"/>
                <a:tab algn="l" pos="2019240"/>
                <a:tab algn="l" pos="2527200"/>
                <a:tab algn="l" pos="3035160"/>
                <a:tab algn="l" pos="3543480"/>
                <a:tab algn="l" pos="4051440"/>
                <a:tab algn="l" pos="4546440"/>
                <a:tab algn="l" pos="5054760"/>
                <a:tab algn="l" pos="5562720"/>
                <a:tab algn="l" pos="6070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507960"/>
                <a:tab algn="l" pos="1015920"/>
                <a:tab algn="l" pos="1511280"/>
                <a:tab algn="l" pos="2019240"/>
                <a:tab algn="l" pos="2527200"/>
                <a:tab algn="l" pos="3035160"/>
                <a:tab algn="l" pos="3543480"/>
                <a:tab algn="l" pos="4051440"/>
                <a:tab algn="l" pos="4546440"/>
                <a:tab algn="l" pos="5054760"/>
                <a:tab algn="l" pos="5562720"/>
                <a:tab algn="l" pos="6070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Courier New"/>
              </a:rPr>
              <a:t>p2=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507960"/>
                <a:tab algn="l" pos="1015920"/>
                <a:tab algn="l" pos="1511280"/>
                <a:tab algn="l" pos="2019240"/>
                <a:tab algn="l" pos="2527200"/>
                <a:tab algn="l" pos="3035160"/>
                <a:tab algn="l" pos="3543480"/>
                <a:tab algn="l" pos="4051440"/>
                <a:tab algn="l" pos="4546440"/>
                <a:tab algn="l" pos="5054760"/>
                <a:tab algn="l" pos="5562720"/>
                <a:tab algn="l" pos="6070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Monaco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Courier New"/>
              </a:rPr>
              <a:t>Ltheta2=dbinom(x=w,size=n,prob=p2);Ltheta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507960"/>
                <a:tab algn="l" pos="1015920"/>
                <a:tab algn="l" pos="1511280"/>
                <a:tab algn="l" pos="2019240"/>
                <a:tab algn="l" pos="2527200"/>
                <a:tab algn="l" pos="3035160"/>
                <a:tab algn="l" pos="3543480"/>
                <a:tab algn="l" pos="4051440"/>
                <a:tab algn="l" pos="4546440"/>
                <a:tab algn="l" pos="5054760"/>
                <a:tab algn="l" pos="5562720"/>
                <a:tab algn="l" pos="6070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507960"/>
                <a:tab algn="l" pos="1015920"/>
                <a:tab algn="l" pos="1511280"/>
                <a:tab algn="l" pos="2019240"/>
                <a:tab algn="l" pos="2527200"/>
                <a:tab algn="l" pos="3035160"/>
                <a:tab algn="l" pos="3543480"/>
                <a:tab algn="l" pos="4051440"/>
                <a:tab algn="l" pos="4546440"/>
                <a:tab algn="l" pos="5054760"/>
                <a:tab algn="l" pos="5562720"/>
                <a:tab algn="l" pos="6070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Courier New"/>
              </a:rPr>
              <a:t>p3=1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507960"/>
                <a:tab algn="l" pos="1015920"/>
                <a:tab algn="l" pos="1511280"/>
                <a:tab algn="l" pos="2019240"/>
                <a:tab algn="l" pos="2527200"/>
                <a:tab algn="l" pos="3035160"/>
                <a:tab algn="l" pos="3543480"/>
                <a:tab algn="l" pos="4051440"/>
                <a:tab algn="l" pos="4546440"/>
                <a:tab algn="l" pos="5054760"/>
                <a:tab algn="l" pos="5562720"/>
                <a:tab algn="l" pos="6070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Monaco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Courier New"/>
              </a:rPr>
              <a:t>Ltheta3=dbinom(x=w,size=n,prob=p3);Ltheta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507960"/>
                <a:tab algn="l" pos="1015920"/>
                <a:tab algn="l" pos="1511280"/>
                <a:tab algn="l" pos="2019240"/>
                <a:tab algn="l" pos="2527200"/>
                <a:tab algn="l" pos="3035160"/>
                <a:tab algn="l" pos="3543480"/>
                <a:tab algn="l" pos="4051440"/>
                <a:tab algn="l" pos="4546440"/>
                <a:tab algn="l" pos="5054760"/>
                <a:tab algn="l" pos="5562720"/>
                <a:tab algn="l" pos="6070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507960"/>
                <a:tab algn="l" pos="1015920"/>
                <a:tab algn="l" pos="1511280"/>
                <a:tab algn="l" pos="2019240"/>
                <a:tab algn="l" pos="2527200"/>
                <a:tab algn="l" pos="3035160"/>
                <a:tab algn="l" pos="3543480"/>
                <a:tab algn="l" pos="4051440"/>
                <a:tab algn="l" pos="4546440"/>
                <a:tab algn="l" pos="5054760"/>
                <a:tab algn="l" pos="5562720"/>
                <a:tab algn="l" pos="6070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muriarte</cp:lastModifiedBy>
  <dcterms:modified xsi:type="dcterms:W3CDTF">2015-09-16T13:13:18Z</dcterms:modified>
  <cp:revision>4</cp:revision>
  <dc:subject/>
  <dc:title>Slide 1</dc:title>
</cp:coreProperties>
</file>